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DACA-B049-458B-A75D-07A537C79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6FA0-35BF-45B5-B2F2-4DBB64C7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BBF7-75C8-4699-A40A-935C4E063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1E0F-FD79-4137-AD52-24B30387C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3B19-DDC3-440B-B168-30FD8E50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F6C7-6287-4301-82A5-9C9F356E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282D-ABF4-4914-887A-45D4BF49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7B60-A973-4857-BC17-9184EC68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C9A5-0AB4-4FE4-81F7-FA1585A5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BCBD-5CB9-4371-B345-B06EC5AA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B58E-4CF6-432F-9ABC-A53F79A3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A47F-2AB0-4BA2-862C-F83685B0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7298-6B7D-4B7E-85D7-E4170F07EB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152280" y="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llringer 3/20/20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Picture 12" descr="hagia_sophia_1"/>
          <p:cNvPicPr/>
          <p:nvPr/>
        </p:nvPicPr>
        <p:blipFill>
          <a:blip r:embed="rId1"/>
          <a:stretch/>
        </p:blipFill>
        <p:spPr>
          <a:xfrm>
            <a:off x="4578480" y="6480"/>
            <a:ext cx="4559040" cy="31384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3"/>
          <p:cNvSpPr/>
          <p:nvPr/>
        </p:nvSpPr>
        <p:spPr>
          <a:xfrm>
            <a:off x="152280" y="609480"/>
            <a:ext cx="4343400" cy="1800360"/>
          </a:xfrm>
          <a:prstGeom prst="rect">
            <a:avLst/>
          </a:prstGeom>
          <a:gradFill rotWithShape="0">
            <a:gsLst>
              <a:gs pos="0">
                <a:srgbClr val="00ad7b"/>
              </a:gs>
              <a:gs pos="100000">
                <a:srgbClr val="00e9a6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k about the notes we took the other day, then answer the following questions:  First 5 min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14"/>
          <p:cNvSpPr/>
          <p:nvPr/>
        </p:nvSpPr>
        <p:spPr>
          <a:xfrm>
            <a:off x="152280" y="3103560"/>
            <a:ext cx="8839440" cy="359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aaca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Why did the Emperor Constantine move his capital to the eastern side of the Roman Empire? (Give 2 Reas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onstantinople was supposed to be the “New ____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Use the book to find the definition of the art form </a:t>
            </a:r>
            <a:r>
              <a:rPr b="0" lang="en-US" sz="2400" spc="-1" strike="noStrike" u="sng">
                <a:solidFill>
                  <a:srgbClr val="262626"/>
                </a:solidFill>
                <a:uFillTx/>
                <a:latin typeface="Arial"/>
              </a:rPr>
              <a:t>mosaic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 that we discussed yesterday.  Write the definition you find in your book for the answ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Using the illustration on page 355, name two ways the city of Constantinople was protec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20:10:04Z</dcterms:created>
  <dc:creator>admin</dc:creator>
  <dc:description/>
  <dc:language>en-US</dc:language>
  <cp:lastModifiedBy>admin</cp:lastModifiedBy>
  <dcterms:modified xsi:type="dcterms:W3CDTF">2012-03-19T19:13:24Z</dcterms:modified>
  <cp:revision>21</cp:revision>
  <dc:subject/>
  <dc:title>Slide 1</dc:title>
</cp:coreProperties>
</file>